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0C79-6601-437D-A393-A03D1D34E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47D6-BF19-4978-A578-51C4ECB9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E5B1-0E5C-43DB-ADA5-CFFEB12B3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4D53-F75A-484D-8EFE-2AD555E5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0541-B353-44E7-B6AC-10F93BD5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333B-BBDB-46D9-A4E4-AC71FBDA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DDCA-8508-4019-969D-08370A45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EBFF-864C-41AC-B414-D46900A8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206E-5A2E-4AEC-94BE-BBE0C419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90D2-E4DA-4C2E-AEC5-8DB4162B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7371-7915-45E1-8FCC-D3B7BF71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C8F3-2381-4AF4-B5D3-C9E50114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B772-F6A5-4909-BB12-FCDA00D01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051youngr\Local Settings\Temporary Internet Files\Content.IE5\WNZ8BQQ5\MPj04411500000[1].jpg"/>
          <p:cNvPicPr/>
          <p:nvPr/>
        </p:nvPicPr>
        <p:blipFill>
          <a:blip r:embed="rId1"/>
          <a:stretch/>
        </p:blipFill>
        <p:spPr>
          <a:xfrm>
            <a:off x="5257800" y="1295280"/>
            <a:ext cx="3048120" cy="4572000"/>
          </a:xfrm>
          <a:prstGeom prst="rect">
            <a:avLst/>
          </a:prstGeom>
          <a:ln w="0">
            <a:noFill/>
          </a:ln>
        </p:spPr>
      </p:pic>
      <p:sp>
        <p:nvSpPr>
          <p:cNvPr id="42" name="Pentagon 7"/>
          <p:cNvSpPr/>
          <p:nvPr/>
        </p:nvSpPr>
        <p:spPr>
          <a:xfrm rot="20252400">
            <a:off x="4723920" y="1066320"/>
            <a:ext cx="2286000" cy="60984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20" y="0"/>
                </a:lnTo>
                <a:lnTo>
                  <a:pt x="21600" y="10800"/>
                </a:lnTo>
                <a:lnTo>
                  <a:pt x="1872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rt bi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entagon 9"/>
          <p:cNvSpPr/>
          <p:nvPr/>
        </p:nvSpPr>
        <p:spPr>
          <a:xfrm rot="20069400">
            <a:off x="4925520" y="5607000"/>
            <a:ext cx="1417680" cy="514440"/>
          </a:xfrm>
          <a:custGeom>
            <a:avLst/>
            <a:gdLst>
              <a:gd name="textAreaLeft" fmla="*/ 0 w 1417680"/>
              <a:gd name="textAreaRight" fmla="*/ 1418040 w 141768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83" y="0"/>
                </a:lnTo>
                <a:lnTo>
                  <a:pt x="21600" y="10800"/>
                </a:lnTo>
                <a:lnTo>
                  <a:pt x="1768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u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entagon 10"/>
          <p:cNvSpPr/>
          <p:nvPr/>
        </p:nvSpPr>
        <p:spPr>
          <a:xfrm rot="2186400">
            <a:off x="4384440" y="3355920"/>
            <a:ext cx="1981080" cy="5335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92" y="0"/>
                </a:lnTo>
                <a:lnTo>
                  <a:pt x="21600" y="10800"/>
                </a:lnTo>
                <a:lnTo>
                  <a:pt x="186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lm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entagon 11"/>
          <p:cNvSpPr/>
          <p:nvPr/>
        </p:nvSpPr>
        <p:spPr>
          <a:xfrm flipH="1" rot="20678400">
            <a:off x="7620120" y="2361960"/>
            <a:ext cx="1523880" cy="457560"/>
          </a:xfrm>
          <a:custGeom>
            <a:avLst/>
            <a:gdLst>
              <a:gd name="textAreaLeft" fmla="*/ -360 w 1523880"/>
              <a:gd name="textAreaRight" fmla="*/ 1523880 w 1523880"/>
              <a:gd name="textAreaTop" fmla="*/ 0 h 457560"/>
              <a:gd name="textAreaBottom" fmla="*/ 457920 h 45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0" y="0"/>
                </a:lnTo>
                <a:lnTo>
                  <a:pt x="21600" y="10800"/>
                </a:lnTo>
                <a:lnTo>
                  <a:pt x="183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entagon 12"/>
          <p:cNvSpPr/>
          <p:nvPr/>
        </p:nvSpPr>
        <p:spPr>
          <a:xfrm flipH="1" rot="1413600">
            <a:off x="7350120" y="5360760"/>
            <a:ext cx="1371600" cy="45720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Rectangle 13" descr=""/>
          <p:cNvPicPr/>
          <p:nvPr/>
        </p:nvPicPr>
        <p:blipFill>
          <a:blip r:embed="rId2"/>
          <a:stretch/>
        </p:blipFill>
        <p:spPr>
          <a:xfrm>
            <a:off x="-274680" y="-109440"/>
            <a:ext cx="3524400" cy="315756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228600" y="1905120"/>
            <a:ext cx="4648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keywords or terms assigned to an article, such as photos, videos, blogs and other fi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gs help describe an item and make it easier to be found la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15"/>
          <p:cNvSpPr/>
          <p:nvPr/>
        </p:nvSpPr>
        <p:spPr>
          <a:xfrm>
            <a:off x="990720" y="5029200"/>
            <a:ext cx="3429000" cy="1600200"/>
          </a:xfrm>
          <a:prstGeom prst="ellipse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rk added </a:t>
            </a:r>
            <a:r>
              <a:rPr b="0" lang="en-US" sz="1800" spc="-1" strike="noStrike">
                <a:solidFill>
                  <a:srgbClr val="0d0d0d"/>
                </a:solidFill>
                <a:latin typeface="Calibri"/>
              </a:rPr>
              <a:t>tags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to his YouTube video so other dirt bikers could find his movie easi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7:15:49Z</dcterms:created>
  <dc:creator>Administrator</dc:creator>
  <dc:description/>
  <dc:language>en-US</dc:language>
  <cp:lastModifiedBy>Administrator</cp:lastModifiedBy>
  <dcterms:modified xsi:type="dcterms:W3CDTF">2009-03-13T17:30:18Z</dcterms:modified>
  <cp:revision>2</cp:revision>
  <dc:subject/>
  <dc:title>Slide 1</dc:title>
</cp:coreProperties>
</file>